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31D-B0BE-4B52-A072-672BF960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036-36D6-4515-9301-D58C4591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DCE22-6384-4681-B095-04BB57C4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F3BD3-2C4C-4D36-89B6-F498194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EF90-71D2-46F6-BF4F-031CDFF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937AB-D367-4931-9EC6-99239FB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92EC4-59CD-43B8-A498-21084D7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5F94E-E32A-4704-837B-558E8548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454D6-DE2F-4469-954A-2986EE4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0F2FC-77FF-405E-ABEC-75B377B0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F44F-375E-4CB0-AAF2-C295A237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5CD2C-9FC4-4D20-9801-BA3C44F6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F06-9DE2-4012-90C7-7DF05479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CFCC6-4843-4A99-8602-5323BB1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E58C-DC33-4673-86A8-054E31F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3186-03EA-4B31-B198-2C3713A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AE7ED-2151-485D-8B7F-CF09C44C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ACFB2-0DF7-420C-AFE5-7D9E63F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4C019-CB40-4B0A-B166-D6541E8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51944-A2BA-428A-B157-8E702122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AAAEA-F09D-4C6E-ABBD-14936C3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A924C-EE78-45F7-87B4-D6E85617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C20E6-9351-4242-B32A-4461C8BE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BEC-70D8-4B1A-A918-78F82EA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42742-6268-4FF0-A164-A5B0B88F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525BA-ED61-4659-A4CB-04BA191A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409F-FBD7-4EDC-82AB-1F203BA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05110-69FD-4CAC-9F16-AA13232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29DE6-047F-4B65-94FA-51FDCF9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A5316-3AFC-4DF2-99DB-18B5BDBF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CD81-61FB-45A8-8881-CBCBF36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9690-BAED-42F4-89B4-8715D9F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796C9-855E-498F-9433-6B0DA86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A65B-046F-4166-B660-25B4FFB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E14-CA3C-41F6-BC1F-51F33267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8F51C-9B80-4B56-9701-AFCE95CE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6042-B76F-4D84-87A6-C1C1F7CD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749D-D292-494A-B11B-927EA77D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3F7F5-2C89-4C15-B1BF-549436FC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7C331-9622-494A-8307-88DD3FE7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7F47B-A385-4EA1-AE62-E2AD829C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AFDA9-0B5D-4C8A-8788-0469AF63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707DE-4B89-4F35-9813-F4E4773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36F9C-0801-49E3-AD60-797F045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FCC7F-FCF6-4840-9F7D-8C05BD9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560-4E2F-4CDD-B4EB-6EC4EB5C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B36C-E2F5-4599-A7AF-BB975FD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B9CB-F83E-4909-8864-683F6E8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641BD-A0C5-4BF7-A5C7-516B06B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C5B89-D22E-4653-88ED-A2A0BCC2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24FE-A7C3-49A5-9A2E-A548C675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4AC49-DD78-4DF5-AE07-AC58EDC8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214AA-57D4-4CFA-B43B-1FC169C3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B97BD-0773-4FE0-9FB3-7DF6F94A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F67D1-771A-4358-B1F8-0C6CB63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A7A71-A050-4C1E-BF94-FAB8EE65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9E86-547C-48D0-8C87-E2AE01D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3C2C8-1025-463F-9AB0-15AFACE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D1115-0950-4E1C-9424-628A8B2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6C5B5-A1A8-4033-ACE2-6CA837A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2B1AC-D18B-447C-BAE6-4404B38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0111E-518D-4F9E-8B44-9C40D6D2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31084-C7C6-403C-B4EC-5CE16B08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D9066-41CB-4902-B83D-63B94628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05177-3005-4EF6-AB34-3921C934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6B8E6-C13A-4D04-BDED-5B940EF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9E559-2477-4B17-9C5C-1DA1423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D34F-990F-40ED-98D5-6A234A8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59E2C-EC8C-4058-A05F-2D46131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31917-8F8C-48F3-9597-A5429D4C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02351-7851-462A-8107-DBF0601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2D5DC-FABA-4810-955D-7433604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B7CA3-2E04-4B32-96C5-7F35301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8E658-67EC-4948-9D6C-4915BE8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E0FB0-2D16-4B88-ADC4-59AE16F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70C11-026A-449C-B9D3-B8332739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0E182-DF18-4667-8674-ACA68CE1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60EF4-2E25-4A80-9524-202582FB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32D6-C72B-43B1-81E2-1C21661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E9216-13A8-4898-BF4A-8385B2B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5A851-C6FF-44F9-A8D4-25825F2E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48F03-D607-4CDE-B4AF-195DDD3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9CAD3-3EC7-4201-8682-C0157651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A0177-95C1-49ED-A443-CA44F196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B4CCA-A45D-49B7-BA51-BEC3897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797FC-A424-4DF4-870F-D951C59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91EB3-1638-4ABB-BE9F-61FD9B7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81191-AABF-4B23-9935-6C2A9B1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9FCB5-D281-447D-9315-32BAFF60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9593-0B5C-4BFD-90D7-3BCBEAD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44B68-89EC-4061-BD6F-786628E8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BA381-B50F-4802-A930-30F93DC6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EEB6F-5819-4C2C-8D28-58FA828E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643CE-3EB5-45CB-969D-1F1CBB1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0CC7B-D98C-4F44-B17D-BE522C40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1E1EE-8A82-48D3-B4F2-3130C16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04DBA-33FE-47DC-AC90-6439E469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3A7C4-C3A3-4F1E-8BF7-7579163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2680D-3DF6-4CEF-8D21-4AD233E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FA384-F025-460E-8605-173834D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4EAB-4079-4718-8500-8626227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C0C2A-1942-4D50-A15D-AAA00457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87B6B-184F-41B3-B185-D0E6228F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6B4D4-4FCC-4291-A82A-82F17F5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28C22-3E32-4E7A-A7DE-C555C258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9CD41-CE05-4401-8AC7-9BFC945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B1C81-E627-4FB6-8931-BE029C74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80DCC-DA58-4613-B413-3F552F4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88B8C-35DD-4892-8B7C-7824A0D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3462F-331F-476F-96F2-7B6F879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BA705-DD15-4D0C-96CF-AD8BF48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D87-1BA8-4AB0-8C29-2956A2A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2110-E790-487D-B2D0-DC266EB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A0FE8-2E93-4D70-9813-33D0B5F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EC361-6716-43AB-9578-25C3F3B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8E633-7282-4C63-A92B-33729FC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5CFF6-A68F-4543-94F6-39EE8A4B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A3958-72C7-4683-9FFF-44413F0B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12009-F3CD-4C00-AF9E-01E8DB1C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2478B-5E8A-4A43-807D-1A3A1A9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8775C-7DD0-4585-948C-4AFD9D0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D5C4A-1E08-4C4F-A873-ED0330DB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61552-426E-4C0B-BDFE-0CBAD4D2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5423-29E0-4908-9B34-9D74027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613BE-5C8A-4A5F-8AA3-E19679E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892C3-3EE6-4465-B11B-5D79A6C7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14F65-34A7-4F4B-BD22-5585EAF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27A7E-0CA7-4222-9A6D-B961E6C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30432-4927-4583-9C23-19B13B9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4D9A1-B7B0-44A1-9844-3BD9634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233AB-4C80-4F13-A901-454A1FE8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6E2AC-3CF2-4905-A7F9-F3D33B9E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88870-CBF2-454F-BA52-A08B447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F201E-E7C0-4BB0-9465-483819FB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1C6-4B21-4A99-9DC6-57BBFD3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CD293-06DF-4BB7-A27D-5D4E107D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5C563-E2EB-479D-B5D4-9C36D30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07199-2589-483C-AD2B-F9CB1A68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8765D-1CF3-4461-8E2D-68C332F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1FE90-3789-48DF-823C-DCCE154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A75C6-A0C4-4FA3-B3EA-3284AF2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E613F-0E9C-4422-AEE3-31F331E7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268ED-FCD6-40B5-BA53-F8208F77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100DC-2677-428B-A23B-AF646D0C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8E417-9A2A-42C9-A8DE-EDCDA9AA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8241-F978-453B-A6FA-AD0964BF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101FC-E8E2-493D-BA57-9086144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63D5E-5E1B-408C-A29B-D02BD1C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12DC5-C14B-49CE-ABEA-5742DCA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A1352-1B58-4A3F-97DD-E97CC855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9346F-7978-4EBA-98A6-FB9DB48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37761-F2B3-41F3-B6C0-2AD61DE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55794-B608-4644-A52B-C868D6A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56D1E-0307-4583-9248-3E53450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0386B-62AF-4039-A9C2-13724FB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00852-B07A-47C2-AAB4-80377EA2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54F4-1A98-4C38-933B-C6FC09AB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591C9-1A97-48AF-9D49-2E0F4439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AAA1D-0132-4A66-A3C9-8BC667E6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11898-4647-4AF4-B60F-8790B2A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1D1AC0-052B-47CD-A1CC-0B4C4A1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7BAAC-1053-44B8-933B-1B8DC50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1A07A-210A-4742-9152-F938937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DBCE2-8081-4C81-8FB6-BD3B031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1F60C-B9D1-4231-9F76-3FB38910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AD75B-4E2C-4B6A-AB76-1D2ADD3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295D5-3A7B-4249-A656-2D4A246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F4C2-88DF-46B1-9991-BA16313D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DB605-D7D3-4D31-9E69-78AF1A9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A9581-3D4E-4C78-A4B5-D5787160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B8496-A06D-47A2-B831-19632D29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FC32-7143-4583-BB53-FB27B8E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17DF-EB33-4CD0-B44C-EA2F26B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4033-EA85-4376-8186-3F6C4AB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8516-4E2B-43CF-8BC9-01B9FFC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5C3-A53A-40DF-AB16-4B7CE48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1016-D056-429F-A1B6-E868A5C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0F74-0845-42E5-8C4C-9203385D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4C07-30C4-4515-8214-1D5140A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60BB-2334-4128-A47B-7BE52C2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379F-06C8-4F40-9577-AFA9BD7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986A-4E4D-499F-B651-1A14E325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2457-8AE4-4B99-97F9-EBD99647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CB3F-96CA-483E-8CA1-362C5329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41A3-586F-4E04-B68F-936710D3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ED2C-4ED6-4063-8E84-9262A1E3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700-009F-420D-BAC2-019E85D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FB84-70D8-4F1D-9D0A-E5DA79FA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5215-2C75-47A8-A557-4E9B7FEB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1131-EFEF-4059-9F35-8F4AB048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3118A-A41D-4E7F-8F3F-6ADF00B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9D01-B873-40EA-A532-483920D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9428-EC53-455C-A14B-6033673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4055-A247-4626-93C1-400595D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5D50-B289-4AC8-8BF8-86A8F865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972B-F673-4122-B6C2-4821C6EA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F34C-BF62-49FC-AE2B-00526FD0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E77-AF71-42A4-9B76-E1A581E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8B472-38E7-40D4-BB67-EFD28BD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9BBA-12E8-4953-8D39-7C2F97F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02BA-98C9-47C9-B164-6BB1484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C934-42EA-464E-B908-68DC6C3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2292-0D64-4305-A51E-5701ABA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2E01-84BA-489C-8D0C-C48E1D8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875B-03D3-4945-86A4-B2BCC3C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CA77-0BD9-4A37-A7AB-446FA61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78562-49AB-4FA4-9792-9C742681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96BB-D835-4839-9FAF-2A1DD08A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A97-A3AF-495C-B82F-3C132995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A60D-9307-4396-9071-1AB12399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E8A4-9253-44C5-9C72-A04B0802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537CA-5D99-4C5A-901C-07E2C3F8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2B4B-5F38-4256-9050-29B6240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BE62-D1E8-4259-884C-BD7D701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DDA6-B6B4-4CE1-8B58-7A11041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05FF-2951-48FA-920D-12AEDA39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A4E1-2BF8-4DEB-A3DF-7D1A7F0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0EFC-C57E-460A-8E52-9DEBAD5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164D-BECF-4CE8-9C68-D35CC25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477-B785-4B10-9AA3-36569FC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4D904-A0A2-45F1-90FF-E4E6524C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CFE4-1C17-44DA-83E8-F598A9B5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6A99-1790-45CC-AE22-A908A4BA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F4111-EF6C-4E8E-BCE2-5CC35B4A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E8A5-FFED-40F5-B3BB-A69E2622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D109-CBA8-48FB-B350-6E7618D9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D85D-ABAB-45A7-98AA-0B03FBE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8FD5-4970-4FE8-9A88-9EBD95E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5823-A6F5-4530-B570-3EC80830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83CE-8677-4C86-8076-1A5E2306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474-C071-495E-B1A8-76A652D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34E21-95A7-48E4-80C5-3CFA192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5B3B-FC07-4712-BEE1-A5515B8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0576-5353-47BF-9290-5619554D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785B-2F79-4136-9827-57B27CC8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8CC8-0E43-44F7-8D66-D9CB359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DEFF-7B8A-493B-AE6E-DB0B7E8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7250-4EDD-4D4A-A18D-AFBB0A7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D794-5123-4079-AC29-9CB143DA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8349-30CC-4FF9-BD04-D0596D1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F733-72F0-42A0-B131-0AE045D4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61A-7C2C-44C1-B13A-E1BA878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7EEE-3B38-4A40-8AEA-4FD901C9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E7EE-FCF8-4E89-BD29-13A95F3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EDC95-7E3F-4902-A29E-70873B0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86B8-C3CF-4D23-B8C2-A1B846B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2A506-3BF8-40E4-86E2-0A7F25BE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4B24-F876-4B49-B480-5926B4A4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EA7D-DD89-47EF-9947-E9A0EE13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1FEDB-B323-49D8-9521-8969A0F6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7DFC0-0954-4DCF-8408-9B75A07A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E44E9-BE39-4546-B239-2478620E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A6E3-7E5D-4B5D-AC4C-525BAA0D6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745-C5B6-469E-8DDE-D129A5284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13D-B044-42C3-9718-EBEE5235E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097-5FEA-487A-92AD-39580CE4E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DC2-9062-4A20-9AE7-14B910791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22A0-FEF6-4B93-83B6-B501090AE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079-F476-4539-972F-86CB78EB5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9CC-B2A2-4ACD-A160-0B794AF98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D4A-C837-4FF4-A07E-083CFA3E1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AB8-80C5-4F77-B317-2F510DB36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1A3-76D5-41A6-BDC3-A88988937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C61-189E-43EC-A5EE-30E34C37D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546-23D7-48CA-8D69-DAE4514F6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5E0-0249-46A9-8393-76A7EE987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83C-8A59-4206-AC7D-8AE166B30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464F-AF73-4E6E-B168-AB7F3BB2E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519-52EC-4A24-8FF7-F8ACDF947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7E8-4D2F-4ED5-8FA1-E236FB39B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9A9-5306-437D-85B3-70D241A9A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69B-6EC2-46E5-94DD-2B1AB8DFE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47B-27C3-45C1-AA6F-191FD58E7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7BCE-3834-4AE0-8B05-64434DF14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6D3-46FB-4D0D-8C6A-64B50E8E77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BDB-38D6-4BC0-A225-945D8A54C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7EE2-67F8-40A6-9A82-4F4511070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F4D2-5FFF-422D-AE68-579A01669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9EE-F18F-4D3D-960E-3B4343AD1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46A-ED33-4EB1-907B-576E0FDEF0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B62-A0BF-4202-9D97-9913D67DB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B86-08EA-46D8-9FCA-011EB3873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D20-DC93-4587-AAAC-5D1C5329E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225-D84A-4959-B7C4-20D9D7215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776E-8693-4663-A94B-73A2FBDB0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00C-9ED3-46ED-A8E2-942B3BAFC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C1D-E301-4498-AD1C-AF776196A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808-AEFB-4234-B34C-E9A60DBFCF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26D-1F77-4932-946B-68AF65DA5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1EF-7FEF-41EC-9D8C-728523AFD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A60-99DD-403C-BB48-4B88FBF41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C4F-DC8D-46BE-97EF-6A59C9EAFF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62120" y="3209760"/>
            <a:ext cx="4019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781200"/>
            <a:ext cx="8524800" cy="5600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956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53360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5456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79600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83296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9707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849320" y="28098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643280" y="2838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380360" y="2795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83528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29240" y="3313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365960" y="32702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1835280" y="36734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629240" y="37018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365960" y="3659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1433520" y="6021360"/>
            <a:ext cx="2317680" cy="38088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60447" descr=""/>
          <p:cNvPicPr/>
          <p:nvPr/>
        </p:nvPicPr>
        <p:blipFill>
          <a:blip r:embed="rId20"/>
          <a:stretch/>
        </p:blipFill>
        <p:spPr>
          <a:xfrm>
            <a:off x="5695920" y="6006960"/>
            <a:ext cx="23176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685800" y="833400"/>
            <a:ext cx="7772400" cy="5619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187280" y="318456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302400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437080" y="318456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5508720" y="3573360"/>
            <a:ext cx="302400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971640" y="6035760"/>
            <a:ext cx="568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8:5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